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E2CA-B76E-4D4D-8639-AF613EA44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3BE7-1D04-45DA-9FEE-162B44E8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341D-6654-4CA8-B979-5BD900703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1B5E-1C49-4AA3-A2EF-FD90CB09B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0E71-2E82-4E8F-8B95-E0646F59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A809-594E-4BF1-98A8-1F93F604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1C0B-749F-4C05-AF2C-7E407DB4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945E-BCD0-48DA-A487-3BBEE800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B56C-962E-4595-A7C4-6F2F936B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9B0E-3B7E-4A30-9CD1-2C5129A4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C501-D339-478D-93F1-9AB999EB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C527-1299-4287-A551-416B6AB8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AFAB-1FCD-4C3D-8B58-79A539A23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447920" y="5943600"/>
            <a:ext cx="640080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What is she thinking? 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9:06:12Z</dcterms:created>
  <dc:creator>Aberdeen Public Schools</dc:creator>
  <dc:description/>
  <dc:language>en-US</dc:language>
  <cp:lastModifiedBy>Aberdeen Public Schools</cp:lastModifiedBy>
  <dcterms:modified xsi:type="dcterms:W3CDTF">2010-05-24T19:10:46Z</dcterms:modified>
  <cp:revision>2</cp:revision>
  <dc:subject/>
  <dc:title>Slide 1</dc:title>
</cp:coreProperties>
</file>